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CTOC-70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fld id="{F8670554-CE84-4135-8B67-18CB8016DB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CTOC B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-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 4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ICTOC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generation timing distribution in IE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= frequency and/o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p - the Prague B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F was held in Pr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, or "there is an interesting probl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P and 1588 presentations, or "the problem IS solvabl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DOs, or "the problem is not being solved elsewher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mike, or "do we want to solve this problem here?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universal agreement on all four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many of those present fel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ula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c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ci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ICTOC were not clear en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not achieve agreement as to ch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p - since Prag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BOF was held in Chic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felt that insufficient progress had been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concern that there was still not agreement as to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 has been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ow have 4 1/2  ID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raft-bryant-tictoc-probstat-0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rization Draf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raft-stein-tictoc-modules-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 Draf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raft-frost-packet-timing-framework-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 Synchronization Requirement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raft-zhou-tictoc-ran-sync-req-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1/2.  1588 over MPL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aft-ronc-ptp-mpls-00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ubmitted to PWE3 WG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's B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CUS ON CHAR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ew version available on unofficial TICTOC web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understand the charter, we need to underst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 1588 profil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ionship between TICTOC and NTP W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D and TD and master selection is impor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ree use case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the use cases clear, necessary, and suffici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the goals achievab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TICTOC take on the NG-NTP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should discovery work be don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re sufficient support for the new char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people inten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rticip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5:53:17Z</dcterms:created>
  <dc:creator>Yaakov_s</dc:creator>
  <dc:description/>
  <dc:language>en-US</dc:language>
  <cp:lastModifiedBy>Yaakov_s</cp:lastModifiedBy>
  <dcterms:modified xsi:type="dcterms:W3CDTF">2007-12-04T16:50:06Z</dcterms:modified>
  <cp:revision>5</cp:revision>
  <dc:subject/>
  <dc:title>TICTOC-70</dc:title>
</cp:coreProperties>
</file>