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3216A-0372-4AD0-B355-2C6920BF97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822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402A6-E2DE-4DB3-AE1D-656583D9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014C4-847E-4781-9D2E-1D6C11A6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0148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0148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3C2E8-E826-4A78-9FF5-2F163C910F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40148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7d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40158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401480"/>
            <a:ext cx="40158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812600" y="111240"/>
            <a:ext cx="573084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7d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01480"/>
            <a:ext cx="40158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0148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7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49AB5-B845-48B6-9D5C-8044A8F6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40158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822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40148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40148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2DF6D-CCE8-4746-9070-0FB0009C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40158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01480"/>
            <a:ext cx="40158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3AE8-B6FA-4FAD-A981-17609400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89174-3570-4040-A1CB-402A4C04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12600" y="111240"/>
            <a:ext cx="573084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B4E71-CCFF-4666-BA28-461AF5D1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01480"/>
            <a:ext cx="40158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01190-19C3-4D31-A422-A2231F4D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40158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07A10-EF74-4108-94DC-03A28DB4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01480"/>
            <a:ext cx="4015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B8045-F731-421A-8A11-3FC779B5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0148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1240" y="6399000"/>
            <a:ext cx="1574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6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CA74-8D73-4CC6-B5A1-1C20CC98C8E3}" type="datetime">
              <a:rPr b="0" lang="en-US" sz="1000" spc="-1" strike="noStrike">
                <a:solidFill>
                  <a:srgbClr val="666666"/>
                </a:solidFill>
                <a:latin typeface="Arial Narrow"/>
              </a:rPr>
              <a:t>07/30/26</a:t>
            </a:fld>
            <a:r>
              <a:rPr b="0" lang="en-US" sz="1000" spc="-1" strike="noStrike">
                <a:solidFill>
                  <a:srgbClr val="666666"/>
                </a:solidFill>
                <a:latin typeface="Arial Narro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96160" y="6479640"/>
            <a:ext cx="1905120" cy="2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B205-D508-458A-8164-AA9316482208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57240" y="1066680"/>
            <a:ext cx="9247320" cy="16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902720" y="264960"/>
            <a:ext cx="831600" cy="339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1805040"/>
            <a:ext cx="8381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7d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 Narrow"/>
              </a:rPr>
              <a:t>Click to edit the outline text format</a:t>
            </a:r>
            <a:endParaRPr b="1" i="1" lang="en-US" sz="2000" spc="-1" strike="noStrike">
              <a:solidFill>
                <a:srgbClr val="00007d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660033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00"/>
              </a:spcBef>
              <a:buClr>
                <a:srgbClr val="6666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649160"/>
            <a:ext cx="8382240" cy="15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 Narrow"/>
              </a:rPr>
              <a:t>Relationship between TICTOC and NTP</a:t>
            </a:r>
            <a:br>
              <a:rPr sz="4000"/>
            </a:br>
            <a:endParaRPr b="1" lang="en-US" sz="4000" spc="-1" strike="noStrike">
              <a:solidFill>
                <a:srgbClr val="00007d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3760" y="3865680"/>
            <a:ext cx="6866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0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 Narrow"/>
              </a:rPr>
              <a:t>IETF 70</a:t>
            </a:r>
            <a:endParaRPr b="1" i="1" lang="en-US" sz="2400" spc="-1" strike="noStrike">
              <a:solidFill>
                <a:srgbClr val="00007d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 Narrow"/>
              </a:rPr>
              <a:t>TICTOC BOF</a:t>
            </a:r>
            <a:endParaRPr b="1" i="1" lang="en-US" sz="2400" spc="-1" strike="noStrike">
              <a:solidFill>
                <a:srgbClr val="00007d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7d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 Narrow"/>
              </a:rPr>
              <a:t>Karen O’Donoghue</a:t>
            </a:r>
            <a:endParaRPr b="1" i="1" lang="en-US" sz="2400" spc="-1" strike="noStrike">
              <a:solidFill>
                <a:srgbClr val="00007d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 Narrow"/>
              </a:rPr>
              <a:t>karen.odonoghue@navy.mil</a:t>
            </a:r>
            <a:endParaRPr b="1" i="1" lang="en-US" sz="2400" spc="-1" strike="noStrike">
              <a:solidFill>
                <a:srgbClr val="00007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Network Time Protocol (NTP)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5100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TP grew out of work done by Dr. David Mills at the University of Delawa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vious versions: 1985 - NTPv0 (RFC 958), 1988 - NTPv1 (RFC 1059), 1989 - NTPv2 (RFC 1119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rrent version: 1992 - NTPv3 (RFC1305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NTP architecture, protocol and algorithms have been evolved over the last twenty plus years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initial objective was to synchronize clocks over the global Intern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us: Millions of NTP peers deployed worldwi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ell managed NTP provides accuracies of: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ow tens of milliseconds on WANs,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milliseconds on managed LANs, and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microseconds possible using a precision time source, hardware assists, and a managed/engineered infrastruc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TP daemon ported to almost every workstation and server platform available toda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1AACE-0AEB-48EA-8FF0-82E63E5484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FCB3B-12AC-43FB-B834-12771E62CC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NTP – IETF Statu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292040"/>
            <a:ext cx="8169480" cy="54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TP developed outside the structure of the IETF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rrent definitive documents (RFC 1305 and RFC 4330) were independent submissions from Dr. Mill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Internet Engineering Task Force (IETF) NTP WG was chartered in March 2005 to develop an NTPv4 specification to include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dated NTPv4 algorithms, IPv6 support, Enhanced Security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NTP (Simple Network Time Protocol)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n NTP MIB (for monitoring and management via SNMP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tocol and Algorithms -08 draft released in November 2007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aft -09 available soon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lan to complete by 1Q 2008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B, Autokey, and NTP Control protocol drafts also underwa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D443A-C042-4F16-8035-E846C980FF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4273F-181A-4998-A2D4-CF3900986C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 there work yet to be done for NTP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early specifying NTPv4 and progressing standards track documents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or modifications / extensions / improvements to NTP (e.g. increased polling interval)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 requirements / next generation NTP capabilit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working between IEEE 1588 and NTP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6DCE7-0FEB-45C4-86B6-213AE64FC78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68431-E354-404E-AD8B-56A1C9E080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is the best way to accomplish this work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TP WG has struggled with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ck of resourc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ck of clear design author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TP WG has work remaining to comple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TP needs to be tightly integrated with TICTOC eff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re there enough time resources in the IETF to support two independent time related working groups?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BEC2A-3DA7-474C-8F43-C4D9A4EEA71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EDB18-A878-4F96-90EE-FC7DAF4F00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TICTOC Work Plan </a:t>
            </a:r>
            <a:r>
              <a:rPr b="1" lang="en-US" sz="3200" spc="-1" strike="noStrike" baseline="30000">
                <a:solidFill>
                  <a:srgbClr val="003366"/>
                </a:solidFill>
                <a:latin typeface="Arial Narrow"/>
              </a:rPr>
              <a:t>1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8229600" cy="52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fine a modular timing architectur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arify requirements for “use case”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th time and frequ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alyze existing solutions in terms of the use case and the architect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dentify existing components that can be leverag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and develop any enhancements required to these existing compon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fine new components needed to complete the architect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n’t reinvent the whe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5778360" y="6245280"/>
            <a:ext cx="29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 interpreted by the presenter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4BE1F-3C73-47EF-8CE1-0791B303D37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65025-0533-40B4-AEAC-BB5C16770E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posed relationship between NTP WG and possible TICTOC WG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TP WG will complete existing charter item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ICTOC will address next generation activities in the context of the TICTOC char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tential NTP modifications / extensions independent of TICTOC will be addressed on a case by case basis as drafts are received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6C7EA-F8EA-4B7C-A270-35788D42800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0DCD8-69B7-47E0-BB16-BCFC2270D4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12600" y="111240"/>
            <a:ext cx="573084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0148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Discussion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4C9B4-65C5-4245-B041-9B073CB3AF6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E845F-A51E-4CC9-AF38-D85CA665CB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21:18:47Z</dcterms:created>
  <dc:creator>Vickie Noble</dc:creator>
  <dc:description/>
  <dc:language>en-US</dc:language>
  <cp:lastModifiedBy>karen.odonoghue</cp:lastModifiedBy>
  <dcterms:modified xsi:type="dcterms:W3CDTF">2007-12-04T16:23:16Z</dcterms:modified>
  <cp:revision>61</cp:revision>
  <dc:subject/>
  <dc:title>Briefing Title</dc:title>
</cp:coreProperties>
</file>