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4B197-3E58-41CE-9817-12C6161271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822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2C0A0-7A12-4CD0-924A-D72B38F3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0148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621E4-8D76-4497-9A1B-26B911DD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264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01480"/>
            <a:ext cx="264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01480"/>
            <a:ext cx="264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CEAAD-DFED-499F-B286-CF73524F07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40148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7d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40158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401480"/>
            <a:ext cx="40158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812600" y="111240"/>
            <a:ext cx="573084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7d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01480"/>
            <a:ext cx="40158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0148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7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DB3C2-0AB5-40A5-9A6D-343AE343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40158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0148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0148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822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0148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264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401480"/>
            <a:ext cx="264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401480"/>
            <a:ext cx="264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9FEA9-46E0-42A6-B9F9-C3B20616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40158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01480"/>
            <a:ext cx="40158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4D689-CDF5-4B9E-B08A-6227F9DF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2EC24-6780-429E-8D25-747E3BF2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12600" y="111240"/>
            <a:ext cx="573084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AA35D-5239-444B-A377-7DFA9409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01480"/>
            <a:ext cx="40158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F5F30-3794-4B67-A7E3-56B43A21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40158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0148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BBD46-1E50-404B-BD03-9BBB7224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0148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C6362-C67A-411F-B2E6-3C472B5F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0148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66003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1240" y="6399000"/>
            <a:ext cx="1574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6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CCA4-C262-4273-852C-D2275FF97C70}" type="datetime">
              <a:rPr b="0" lang="en-US" sz="1000" spc="-1" strike="noStrike">
                <a:solidFill>
                  <a:srgbClr val="666666"/>
                </a:solidFill>
                <a:latin typeface="Arial Narrow"/>
              </a:rPr>
              <a:t>07/31/26</a:t>
            </a:fld>
            <a:r>
              <a:rPr b="0" lang="en-US" sz="1000" spc="-1" strike="noStrike">
                <a:solidFill>
                  <a:srgbClr val="666666"/>
                </a:solidFill>
                <a:latin typeface="Arial Narro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96160" y="6479640"/>
            <a:ext cx="1905120" cy="2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D693-5499-4D96-B31B-B0B23CA7F331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57240" y="1066680"/>
            <a:ext cx="9247320" cy="16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902720" y="264960"/>
            <a:ext cx="831600" cy="339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1805040"/>
            <a:ext cx="8381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7d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 Narrow"/>
              </a:rPr>
              <a:t>Click to edit the outline text format</a:t>
            </a:r>
            <a:endParaRPr b="1" i="1" lang="en-US" sz="2000" spc="-1" strike="noStrike">
              <a:solidFill>
                <a:srgbClr val="00007d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660033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00"/>
              </a:spcBef>
              <a:buClr>
                <a:srgbClr val="6666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649160"/>
            <a:ext cx="8382240" cy="15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 Narrow"/>
              </a:rPr>
              <a:t>Relationship between TICTOC and NTP</a:t>
            </a:r>
            <a:br>
              <a:rPr sz="4000"/>
            </a:br>
            <a:endParaRPr b="1" lang="en-US" sz="4000" spc="-1" strike="noStrike">
              <a:solidFill>
                <a:srgbClr val="00007d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3760" y="3865680"/>
            <a:ext cx="6866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0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 Narrow"/>
              </a:rPr>
              <a:t>IETF 70</a:t>
            </a:r>
            <a:endParaRPr b="1" i="1" lang="en-US" sz="2400" spc="-1" strike="noStrike">
              <a:solidFill>
                <a:srgbClr val="00007d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 Narrow"/>
              </a:rPr>
              <a:t>TICTOC BOF</a:t>
            </a:r>
            <a:endParaRPr b="1" i="1" lang="en-US" sz="2400" spc="-1" strike="noStrike">
              <a:solidFill>
                <a:srgbClr val="00007d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7d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 Narrow"/>
              </a:rPr>
              <a:t>Karen O’Donoghue</a:t>
            </a:r>
            <a:endParaRPr b="1" i="1" lang="en-US" sz="2400" spc="-1" strike="noStrike">
              <a:solidFill>
                <a:srgbClr val="00007d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 Narrow"/>
              </a:rPr>
              <a:t>karen.odonoghue@navy.mil</a:t>
            </a:r>
            <a:endParaRPr b="1" i="1" lang="en-US" sz="2400" spc="-1" strike="noStrike">
              <a:solidFill>
                <a:srgbClr val="00007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Network Time Protocol (NTP)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5100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TP grew out of work done by Dr. David Mills at the University of Delawa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vious versions: 1985 - NTPv0 (RFC 958), 1988 - NTPv1 (RFC 1059), 1989 - NTPv2 (RFC 1119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urrent version: 1992 - NTPv3 (RFC1305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NTP architecture, protocol and algorithms have been evolved over the last twenty plus years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initial objective was to synchronize clocks over the global Intern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us: Millions of NTP peers deployed worldwi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ell managed NTP provides accuracies of: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ow tens of milliseconds on WANs,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milliseconds on managed LANs, and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microseconds possible using a precision time source, hardware assists, and a managed/engineered infrastruc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TP daemon ported to almost every workstation and server platform available toda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C28E4-7FAC-44F4-87C4-61673A3ED9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55AF6-F1C3-453C-9F75-5D55C81CDF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NTP – IETF Status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292040"/>
            <a:ext cx="8169480" cy="54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TP developed outside the structure of the IETF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urrent definitive documents (RFC 1305 and RFC 4330) were independent submissions from Dr. Mill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Internet Engineering Task Force (IETF) NTP WG was chartered in March 2005 to develop an NTPv4 specification to include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dated NTPv4 algorithms, IPv6 support, Enhanced Security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NTP (Simple Network Time Protocol)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n NTP MIB (for monitoring and management via SNMP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tocol and Algorithms -08 draft released in November 2007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raft -09 available soon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lan to complete by 1Q 2008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IB, Autokey, and NTP Control protocol drafts also underwa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4A8DC-DC74-4653-B629-A85ED67511B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3CB3C-C8A5-46CC-A9C3-392709DF33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s there work yet to be done for NTP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early specifying NTPv4 and progressing standards track documents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nor modifications / extensions / improvements to NTP (e.g. increased polling interval)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 requirements / next generation NTP capabilit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rworking between IEEE 1588 and NTP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8E06A-0AAE-4CA0-8BA1-9D9B4BE0B22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956A9-0864-4F60-B088-4A81C26BAB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is the best way to accomplish this work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TP WG has struggled with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ck of resourc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ck of clear design author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TP WG has work remaining to comple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TP needs to be tightly integrated with TICTOC eff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re there enough time resources in the IETF to support two independent time related working groups?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F6130-8DC6-41D7-A5D7-61280237D80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E3D91-D140-4C25-88A8-0AA1D08F20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TICTOC Work Plan </a:t>
            </a:r>
            <a:r>
              <a:rPr b="1" lang="en-US" sz="3200" spc="-1" strike="noStrike" baseline="30000">
                <a:solidFill>
                  <a:srgbClr val="003366"/>
                </a:solidFill>
                <a:latin typeface="Arial Narrow"/>
              </a:rPr>
              <a:t>1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8229600" cy="52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fine a modular timing architectur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arify requirements for “use case”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th time and frequ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alyze existing solutions in terms of the use case and the architectu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dentify existing components that can be leverag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y and develop any enhancements required to these existing compon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fine new components needed to complete the architectu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n’t reinvent the whe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5778360" y="6245280"/>
            <a:ext cx="29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 interpreted by the presenter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D8359-D67D-40A5-971C-B3EC06A2745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EB700-0A31-414E-A2DB-DFFD8BABC6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posed relationship between NTP WG and possible TICTOC WG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TP WG will complete existing charter item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ICTOC will address next generation activities in the context of the TICTOC char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tential NTP modifications / extensions independent of TICTOC will be addressed on a case by case basis as drafts are received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C1FF3-4BFC-475C-8455-4FBF5B61C8E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F4C21-E819-4BF6-9247-7AF2B716A0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Discussion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F8442-6222-4F0B-889D-34912CF20D4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12A3E-AE3F-40EE-91EC-7ED53F2005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21:18:47Z</dcterms:created>
  <dc:creator>Vickie Noble</dc:creator>
  <dc:description/>
  <dc:language>en-US</dc:language>
  <cp:lastModifiedBy>karen.odonoghue</cp:lastModifiedBy>
  <dcterms:modified xsi:type="dcterms:W3CDTF">2007-12-04T16:23:16Z</dcterms:modified>
  <cp:revision>61</cp:revision>
  <dc:subject/>
  <dc:title>Briefing Title</dc:title>
</cp:coreProperties>
</file>