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A7C-22F8-4E58-9046-DD6AAC54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81B-A2E0-44AD-B4F8-5D65A37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5EF-70AE-4F97-8380-8C7787BB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D3F-9358-41F0-AFAE-AA1A9502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A81-7C86-4158-BF46-D6182014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5A5-02F2-4B90-9C27-340A117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92F-2EB9-4789-A389-416B19D7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33C-2E29-4D11-84FB-2C448B1D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760-67A0-4067-8BF8-9328983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942-1C5B-4918-9C37-F5950DD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2D4-8200-45A1-A2E8-56C9655A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5D6-9780-4815-B70A-C603514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D9B2-810B-4AF3-97BD-D8D24EF3E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TOC -Topology-Discovery and Clock-Discove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CTOC BOF IETF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wart Bryant (stbryant@cisco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ality of time transfer is improved if the network topology is optimized for the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mum time transfer topology may not be congruent with the optimum data top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is controlled by routing, thus routing support is needed to optimize time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ETF is the design authority for routing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to design the highest quality time transfer protocol for IP networks the IETF has to engage with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al is NOT for TICTOC to design a new routing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al is for TICTOC to produce a time distribution architecture, to identify the time support routing requirements, and then to work with the existing routing groups to define the required protocol ext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ime usage becomes more ubiquitous more nodes need to be accurately synchronized to high quality network 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needs to be of adequate quality, have the resources available to support the client and be accessible via a time suitable network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lock fails the slave needs to find a new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clock-slave pairing will be statically config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slaves increases and the demands on time quality/availability increase static configuration does not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Provider and enterprise network environment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protocols are different (e.g. BGP in SP networks, but less likely in Enterprise networ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networks have sophisticated provision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Discovery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symbiosis between routing and clock distribution a clock discovery protocol based on routing seems lik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of an IGP seems most likely to be applicable to SP and Enterpris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 is the “traditional” method used for discovery in SP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Discovery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as high quality time distribution becomes an important element of the network infrastructure a discovery mechanism will be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at a slave needs both a suitable clock and a suitable path, there is some symbiosis with ro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area that can only be effectively addressed in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124440" y="27432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problems do these discovery mechanisms s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should they be specified in the IET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ransfer in a Packet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quire time a client (slave) needs to receive time-stamped packets from a time server, AND it needs to know how old the packet is when it arr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stems assume that the path is symmetric, and therefore age is half the round trip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delay is often (but not always) constant, but switch/router delay is load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approaches to switch/router del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lucky packets that experienced minimum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y Clocks. Each switch/router becomes a client to its parent router closer to the time server and time server  its child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 Clocks. Measure the queuing time at each switch/router and ei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the timestamp in packet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the delay to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 is usually formed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ually the set of paths with the lowest routing 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etric pat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sen for highest bandwidth, but  policy may be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data path may not be the best path for time and frequency trans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cky Packet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data path from master to slave is M-A-B-C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router there is a probability that the timing pkt will be queued - O(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o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time path may be M-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timing path may not be available through the existing I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data path may not be recipr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828800" y="1599840"/>
            <a:ext cx="457200" cy="457560"/>
            <a:chOff x="1828800" y="1599840"/>
            <a:chExt cx="457200" cy="457560"/>
          </a:xfrm>
        </p:grpSpPr>
        <p:sp>
          <p:nvSpPr>
            <p:cNvPr id="52" name=""/>
            <p:cNvSpPr/>
            <p:nvPr/>
          </p:nvSpPr>
          <p:spPr>
            <a:xfrm>
              <a:off x="182880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207000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07072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28800" y="4647960"/>
            <a:ext cx="457200" cy="457560"/>
            <a:chOff x="1828800" y="4647960"/>
            <a:chExt cx="457200" cy="457560"/>
          </a:xfrm>
        </p:grpSpPr>
        <p:sp>
          <p:nvSpPr>
            <p:cNvPr id="56" name=""/>
            <p:cNvSpPr/>
            <p:nvPr/>
          </p:nvSpPr>
          <p:spPr>
            <a:xfrm>
              <a:off x="182880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07000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07072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H="1">
            <a:off x="91440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204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3204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9810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9680" y="3505320"/>
            <a:ext cx="914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2300400"/>
            <a:ext cx="334800" cy="368280"/>
            <a:chOff x="762120" y="2300400"/>
            <a:chExt cx="334800" cy="368280"/>
          </a:xfrm>
        </p:grpSpPr>
        <p:sp>
          <p:nvSpPr>
            <p:cNvPr id="66" name=""/>
            <p:cNvSpPr/>
            <p:nvPr/>
          </p:nvSpPr>
          <p:spPr>
            <a:xfrm>
              <a:off x="76212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392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62120" y="3124080"/>
            <a:ext cx="334800" cy="368280"/>
            <a:chOff x="762120" y="3124080"/>
            <a:chExt cx="334800" cy="368280"/>
          </a:xfrm>
        </p:grpSpPr>
        <p:sp>
          <p:nvSpPr>
            <p:cNvPr id="69" name=""/>
            <p:cNvSpPr/>
            <p:nvPr/>
          </p:nvSpPr>
          <p:spPr>
            <a:xfrm>
              <a:off x="7621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92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62120" y="3886200"/>
            <a:ext cx="347040" cy="368280"/>
            <a:chOff x="762120" y="3886200"/>
            <a:chExt cx="347040" cy="368280"/>
          </a:xfrm>
        </p:grpSpPr>
        <p:sp>
          <p:nvSpPr>
            <p:cNvPr id="72" name=""/>
            <p:cNvSpPr/>
            <p:nvPr/>
          </p:nvSpPr>
          <p:spPr>
            <a:xfrm>
              <a:off x="76212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92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40120" y="3124080"/>
            <a:ext cx="347040" cy="368280"/>
            <a:chOff x="2940120" y="3124080"/>
            <a:chExt cx="347040" cy="368280"/>
          </a:xfrm>
        </p:grpSpPr>
        <p:sp>
          <p:nvSpPr>
            <p:cNvPr id="75" name=""/>
            <p:cNvSpPr/>
            <p:nvPr/>
          </p:nvSpPr>
          <p:spPr>
            <a:xfrm>
              <a:off x="29401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4192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36232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72428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528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58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580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896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9040" y="225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29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y Clock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um data path is M-A-B-C-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ath A to D is via B and C, but B does not support boundary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1588 uses link local addressing/forwarding, application layer hellos, and application layer rou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the best approach in the IETF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384280" y="1599840"/>
            <a:ext cx="457200" cy="457560"/>
            <a:chOff x="2384280" y="1599840"/>
            <a:chExt cx="457200" cy="457560"/>
          </a:xfrm>
        </p:grpSpPr>
        <p:sp>
          <p:nvSpPr>
            <p:cNvPr id="88" name=""/>
            <p:cNvSpPr/>
            <p:nvPr/>
          </p:nvSpPr>
          <p:spPr>
            <a:xfrm>
              <a:off x="238428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62548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62620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84280" y="4647960"/>
            <a:ext cx="457200" cy="457560"/>
            <a:chOff x="2384280" y="4647960"/>
            <a:chExt cx="457200" cy="457560"/>
          </a:xfrm>
        </p:grpSpPr>
        <p:sp>
          <p:nvSpPr>
            <p:cNvPr id="92" name=""/>
            <p:cNvSpPr/>
            <p:nvPr/>
          </p:nvSpPr>
          <p:spPr>
            <a:xfrm>
              <a:off x="238428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62548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62620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146988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2520" y="251460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75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8752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7600" y="2300400"/>
            <a:ext cx="334800" cy="368280"/>
            <a:chOff x="1317600" y="2300400"/>
            <a:chExt cx="334800" cy="368280"/>
          </a:xfrm>
        </p:grpSpPr>
        <p:sp>
          <p:nvSpPr>
            <p:cNvPr id="100" name=""/>
            <p:cNvSpPr/>
            <p:nvPr/>
          </p:nvSpPr>
          <p:spPr>
            <a:xfrm>
              <a:off x="131760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940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17600" y="3124080"/>
            <a:ext cx="334800" cy="368280"/>
            <a:chOff x="1317600" y="3124080"/>
            <a:chExt cx="334800" cy="368280"/>
          </a:xfrm>
        </p:grpSpPr>
        <p:sp>
          <p:nvSpPr>
            <p:cNvPr id="103" name=""/>
            <p:cNvSpPr/>
            <p:nvPr/>
          </p:nvSpPr>
          <p:spPr>
            <a:xfrm>
              <a:off x="131760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94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17600" y="3886200"/>
            <a:ext cx="347040" cy="368280"/>
            <a:chOff x="1317600" y="3886200"/>
            <a:chExt cx="347040" cy="368280"/>
          </a:xfrm>
        </p:grpSpPr>
        <p:sp>
          <p:nvSpPr>
            <p:cNvPr id="106" name=""/>
            <p:cNvSpPr/>
            <p:nvPr/>
          </p:nvSpPr>
          <p:spPr>
            <a:xfrm>
              <a:off x="131760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940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1780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780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076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5128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480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850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079720" y="3124080"/>
            <a:ext cx="347040" cy="368280"/>
            <a:chOff x="2079720" y="3124080"/>
            <a:chExt cx="347040" cy="368280"/>
          </a:xfrm>
        </p:grpSpPr>
        <p:sp>
          <p:nvSpPr>
            <p:cNvPr id="115" name=""/>
            <p:cNvSpPr/>
            <p:nvPr/>
          </p:nvSpPr>
          <p:spPr>
            <a:xfrm>
              <a:off x="20797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8152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6988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22160" y="3505320"/>
            <a:ext cx="609480" cy="533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76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9720" y="248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03400" y="3733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22520" y="3504960"/>
            <a:ext cx="761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62320" y="3123720"/>
            <a:ext cx="457200" cy="457560"/>
            <a:chOff x="2362320" y="3123720"/>
            <a:chExt cx="457200" cy="457560"/>
          </a:xfrm>
        </p:grpSpPr>
        <p:sp>
          <p:nvSpPr>
            <p:cNvPr id="124" name=""/>
            <p:cNvSpPr/>
            <p:nvPr/>
          </p:nvSpPr>
          <p:spPr>
            <a:xfrm>
              <a:off x="2362320" y="31240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603520" y="312372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604240" y="325836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14400" y="2285640"/>
            <a:ext cx="457200" cy="457560"/>
            <a:chOff x="914400" y="2285640"/>
            <a:chExt cx="457200" cy="457560"/>
          </a:xfrm>
        </p:grpSpPr>
        <p:sp>
          <p:nvSpPr>
            <p:cNvPr id="128" name=""/>
            <p:cNvSpPr/>
            <p:nvPr/>
          </p:nvSpPr>
          <p:spPr>
            <a:xfrm>
              <a:off x="914400" y="22860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155600" y="22856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156320" y="24202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14400" y="3885840"/>
            <a:ext cx="457200" cy="457560"/>
            <a:chOff x="914400" y="3885840"/>
            <a:chExt cx="457200" cy="457560"/>
          </a:xfrm>
        </p:grpSpPr>
        <p:sp>
          <p:nvSpPr>
            <p:cNvPr id="132" name=""/>
            <p:cNvSpPr/>
            <p:nvPr/>
          </p:nvSpPr>
          <p:spPr>
            <a:xfrm>
              <a:off x="914400" y="3886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155600" y="3885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156320" y="4020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5638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cascading of the clock servos causes degradation of time quality. The extent is implementation dependent.  This was why IEEE1588 introduced transparent c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t Clock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1371600"/>
            <a:ext cx="7387200" cy="1524960"/>
            <a:chOff x="762120" y="1371600"/>
            <a:chExt cx="7387200" cy="1524960"/>
          </a:xfrm>
        </p:grpSpPr>
        <p:grpSp>
          <p:nvGrpSpPr>
            <p:cNvPr id="138" name=""/>
            <p:cNvGrpSpPr/>
            <p:nvPr/>
          </p:nvGrpSpPr>
          <p:grpSpPr>
            <a:xfrm>
              <a:off x="762120" y="1599840"/>
              <a:ext cx="457200" cy="457560"/>
              <a:chOff x="762120" y="1599840"/>
              <a:chExt cx="457200" cy="457560"/>
            </a:xfrm>
          </p:grpSpPr>
          <p:sp>
            <p:nvSpPr>
              <p:cNvPr id="139" name=""/>
              <p:cNvSpPr/>
              <p:nvPr/>
            </p:nvSpPr>
            <p:spPr>
              <a:xfrm>
                <a:off x="762120" y="1600200"/>
                <a:ext cx="4572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003320" y="1599840"/>
                <a:ext cx="36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004040" y="1734480"/>
                <a:ext cx="10764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905120" y="1600200"/>
              <a:ext cx="1752480" cy="1296360"/>
              <a:chOff x="1905120" y="1600200"/>
              <a:chExt cx="1752480" cy="129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2057400" y="1600200"/>
                <a:ext cx="11430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5120" y="2133720"/>
                <a:ext cx="587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70080" y="2133720"/>
                <a:ext cx="58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2520" y="2490840"/>
                <a:ext cx="1070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105520" y="1600200"/>
              <a:ext cx="1752480" cy="1296360"/>
              <a:chOff x="5105520" y="1600200"/>
              <a:chExt cx="1752480" cy="1296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257800" y="1600200"/>
                <a:ext cx="11430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05520" y="2133720"/>
                <a:ext cx="587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70480" y="2133720"/>
                <a:ext cx="58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82920" y="2490840"/>
                <a:ext cx="1070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9320" y="1828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182880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1828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3520" y="141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47520" y="1424160"/>
              <a:ext cx="113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T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66760" y="1371600"/>
              <a:ext cx="1582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T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62120" y="4114440"/>
            <a:ext cx="457200" cy="457560"/>
            <a:chOff x="762120" y="4114440"/>
            <a:chExt cx="457200" cy="457560"/>
          </a:xfrm>
        </p:grpSpPr>
        <p:sp>
          <p:nvSpPr>
            <p:cNvPr id="159" name=""/>
            <p:cNvSpPr/>
            <p:nvPr/>
          </p:nvSpPr>
          <p:spPr>
            <a:xfrm>
              <a:off x="762120" y="41148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003320" y="41144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004040" y="42490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905120" y="4152960"/>
            <a:ext cx="1752480" cy="1296000"/>
            <a:chOff x="1905120" y="4152960"/>
            <a:chExt cx="1752480" cy="1296000"/>
          </a:xfrm>
        </p:grpSpPr>
        <p:sp>
          <p:nvSpPr>
            <p:cNvPr id="163" name=""/>
            <p:cNvSpPr/>
            <p:nvPr/>
          </p:nvSpPr>
          <p:spPr>
            <a:xfrm>
              <a:off x="2057400" y="4152960"/>
              <a:ext cx="114300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5120" y="4686120"/>
              <a:ext cx="587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70080" y="4686120"/>
              <a:ext cx="58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2520" y="5043240"/>
              <a:ext cx="107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105520" y="4152960"/>
            <a:ext cx="1752480" cy="1296000"/>
            <a:chOff x="5105520" y="4152960"/>
            <a:chExt cx="1752480" cy="1296000"/>
          </a:xfrm>
        </p:grpSpPr>
        <p:sp>
          <p:nvSpPr>
            <p:cNvPr id="168" name=""/>
            <p:cNvSpPr/>
            <p:nvPr/>
          </p:nvSpPr>
          <p:spPr>
            <a:xfrm>
              <a:off x="5257800" y="4152960"/>
              <a:ext cx="114300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5520" y="4686120"/>
              <a:ext cx="587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0480" y="4686120"/>
              <a:ext cx="58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2920" y="5043240"/>
              <a:ext cx="107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19320" y="42242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2386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2670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3352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43200" y="38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4520" y="3772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44528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4672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44956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9160" y="4495680"/>
            <a:ext cx="45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495680"/>
            <a:ext cx="108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449568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800" y="311616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tep Transparent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653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tep Transparent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9640" y="5562720"/>
            <a:ext cx="22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 = T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t Clock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um data path is M-A-B-C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A to D is via B and C, but B does not support transparen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 packet is an ordinary packet, and so cannot be forced using application layer ro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84280" y="1599840"/>
            <a:ext cx="457200" cy="457560"/>
            <a:chOff x="2384280" y="1599840"/>
            <a:chExt cx="457200" cy="457560"/>
          </a:xfrm>
        </p:grpSpPr>
        <p:sp>
          <p:nvSpPr>
            <p:cNvPr id="190" name=""/>
            <p:cNvSpPr/>
            <p:nvPr/>
          </p:nvSpPr>
          <p:spPr>
            <a:xfrm>
              <a:off x="238428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62548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62620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384280" y="4647960"/>
            <a:ext cx="457200" cy="457560"/>
            <a:chOff x="2384280" y="4647960"/>
            <a:chExt cx="457200" cy="457560"/>
          </a:xfrm>
        </p:grpSpPr>
        <p:sp>
          <p:nvSpPr>
            <p:cNvPr id="194" name=""/>
            <p:cNvSpPr/>
            <p:nvPr/>
          </p:nvSpPr>
          <p:spPr>
            <a:xfrm>
              <a:off x="238428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62548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62620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>
            <a:off x="146988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22520" y="251460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75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752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17600" y="2300400"/>
            <a:ext cx="334800" cy="368280"/>
            <a:chOff x="1317600" y="2300400"/>
            <a:chExt cx="334800" cy="368280"/>
          </a:xfrm>
        </p:grpSpPr>
        <p:sp>
          <p:nvSpPr>
            <p:cNvPr id="202" name=""/>
            <p:cNvSpPr/>
            <p:nvPr/>
          </p:nvSpPr>
          <p:spPr>
            <a:xfrm>
              <a:off x="131760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1940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317600" y="3124080"/>
            <a:ext cx="334800" cy="368280"/>
            <a:chOff x="1317600" y="3124080"/>
            <a:chExt cx="334800" cy="368280"/>
          </a:xfrm>
        </p:grpSpPr>
        <p:sp>
          <p:nvSpPr>
            <p:cNvPr id="205" name=""/>
            <p:cNvSpPr/>
            <p:nvPr/>
          </p:nvSpPr>
          <p:spPr>
            <a:xfrm>
              <a:off x="131760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94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317600" y="3886200"/>
            <a:ext cx="347040" cy="368280"/>
            <a:chOff x="1317600" y="3886200"/>
            <a:chExt cx="347040" cy="368280"/>
          </a:xfrm>
        </p:grpSpPr>
        <p:sp>
          <p:nvSpPr>
            <p:cNvPr id="208" name=""/>
            <p:cNvSpPr/>
            <p:nvPr/>
          </p:nvSpPr>
          <p:spPr>
            <a:xfrm>
              <a:off x="131760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1940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91780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780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076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480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850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079720" y="3124080"/>
            <a:ext cx="347040" cy="368280"/>
            <a:chOff x="2079720" y="3124080"/>
            <a:chExt cx="347040" cy="368280"/>
          </a:xfrm>
        </p:grpSpPr>
        <p:sp>
          <p:nvSpPr>
            <p:cNvPr id="217" name=""/>
            <p:cNvSpPr/>
            <p:nvPr/>
          </p:nvSpPr>
          <p:spPr>
            <a:xfrm>
              <a:off x="207972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8152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46988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622160" y="3505320"/>
            <a:ext cx="609480" cy="533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76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9720" y="2481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03400" y="3733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22520" y="3504960"/>
            <a:ext cx="761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286000"/>
            <a:ext cx="533520" cy="457200"/>
            <a:chOff x="914400" y="2286000"/>
            <a:chExt cx="533520" cy="457200"/>
          </a:xfrm>
        </p:grpSpPr>
        <p:sp>
          <p:nvSpPr>
            <p:cNvPr id="226" name=""/>
            <p:cNvSpPr/>
            <p:nvPr/>
          </p:nvSpPr>
          <p:spPr>
            <a:xfrm>
              <a:off x="914400" y="22860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3922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33520" y="3124080"/>
            <a:ext cx="533520" cy="457200"/>
            <a:chOff x="2333520" y="3124080"/>
            <a:chExt cx="533520" cy="457200"/>
          </a:xfrm>
        </p:grpSpPr>
        <p:sp>
          <p:nvSpPr>
            <p:cNvPr id="229" name=""/>
            <p:cNvSpPr/>
            <p:nvPr/>
          </p:nvSpPr>
          <p:spPr>
            <a:xfrm>
              <a:off x="2333520" y="31240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3520" y="32302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914400" y="3886200"/>
            <a:ext cx="533520" cy="457200"/>
            <a:chOff x="914400" y="3886200"/>
            <a:chExt cx="533520" cy="457200"/>
          </a:xfrm>
        </p:grpSpPr>
        <p:sp>
          <p:nvSpPr>
            <p:cNvPr id="232" name=""/>
            <p:cNvSpPr/>
            <p:nvPr/>
          </p:nvSpPr>
          <p:spPr>
            <a:xfrm>
              <a:off x="914400" y="3886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39924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e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th to the master is lost the slave needs to go into hold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 of clock and duration of holdover have a direct effect on the cost of the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ing clock over diverse paths can lead to a reduction in slav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e path can also be used to good effect in lucky packet clock algorithms, because the probability of delay is statistically re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384280" y="1599840"/>
            <a:ext cx="457200" cy="457560"/>
            <a:chOff x="2384280" y="1599840"/>
            <a:chExt cx="457200" cy="457560"/>
          </a:xfrm>
        </p:grpSpPr>
        <p:sp>
          <p:nvSpPr>
            <p:cNvPr id="237" name=""/>
            <p:cNvSpPr/>
            <p:nvPr/>
          </p:nvSpPr>
          <p:spPr>
            <a:xfrm>
              <a:off x="2384280" y="1600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2625480" y="159984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26200" y="173448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384280" y="4647960"/>
            <a:ext cx="457200" cy="457560"/>
            <a:chOff x="2384280" y="4647960"/>
            <a:chExt cx="457200" cy="457560"/>
          </a:xfrm>
        </p:grpSpPr>
        <p:sp>
          <p:nvSpPr>
            <p:cNvPr id="241" name=""/>
            <p:cNvSpPr/>
            <p:nvPr/>
          </p:nvSpPr>
          <p:spPr>
            <a:xfrm>
              <a:off x="2384280" y="46483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2625480" y="4647960"/>
              <a:ext cx="36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626200" y="4782600"/>
              <a:ext cx="1076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>
            <a:off x="1469880" y="1905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875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87520" y="42670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317600" y="2300400"/>
            <a:ext cx="334800" cy="368280"/>
            <a:chOff x="1317600" y="2300400"/>
            <a:chExt cx="334800" cy="368280"/>
          </a:xfrm>
        </p:grpSpPr>
        <p:sp>
          <p:nvSpPr>
            <p:cNvPr id="248" name=""/>
            <p:cNvSpPr/>
            <p:nvPr/>
          </p:nvSpPr>
          <p:spPr>
            <a:xfrm>
              <a:off x="1317600" y="23623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19400" y="230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317600" y="3124080"/>
            <a:ext cx="334800" cy="368280"/>
            <a:chOff x="1317600" y="3124080"/>
            <a:chExt cx="334800" cy="368280"/>
          </a:xfrm>
        </p:grpSpPr>
        <p:sp>
          <p:nvSpPr>
            <p:cNvPr id="251" name=""/>
            <p:cNvSpPr/>
            <p:nvPr/>
          </p:nvSpPr>
          <p:spPr>
            <a:xfrm>
              <a:off x="131760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194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317600" y="3886200"/>
            <a:ext cx="347040" cy="368280"/>
            <a:chOff x="1317600" y="3886200"/>
            <a:chExt cx="347040" cy="368280"/>
          </a:xfrm>
        </p:grpSpPr>
        <p:sp>
          <p:nvSpPr>
            <p:cNvPr id="254" name=""/>
            <p:cNvSpPr/>
            <p:nvPr/>
          </p:nvSpPr>
          <p:spPr>
            <a:xfrm>
              <a:off x="1317600" y="39481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1940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917800" y="1523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780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076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51280" y="34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84800" y="446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62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946240" y="3124080"/>
            <a:ext cx="347040" cy="368280"/>
            <a:chOff x="2946240" y="3124080"/>
            <a:chExt cx="347040" cy="368280"/>
          </a:xfrm>
        </p:grpSpPr>
        <p:sp>
          <p:nvSpPr>
            <p:cNvPr id="263" name=""/>
            <p:cNvSpPr/>
            <p:nvPr/>
          </p:nvSpPr>
          <p:spPr>
            <a:xfrm>
              <a:off x="2946240" y="3186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48040" y="312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46988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7600" y="263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4400" y="2286000"/>
            <a:ext cx="533520" cy="473040"/>
            <a:chOff x="914400" y="2286000"/>
            <a:chExt cx="533520" cy="473040"/>
          </a:xfrm>
        </p:grpSpPr>
        <p:sp>
          <p:nvSpPr>
            <p:cNvPr id="268" name=""/>
            <p:cNvSpPr/>
            <p:nvPr/>
          </p:nvSpPr>
          <p:spPr>
            <a:xfrm>
              <a:off x="914400" y="22860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" y="23922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200400" y="3124080"/>
            <a:ext cx="533520" cy="473040"/>
            <a:chOff x="3200400" y="3124080"/>
            <a:chExt cx="533520" cy="473040"/>
          </a:xfrm>
        </p:grpSpPr>
        <p:sp>
          <p:nvSpPr>
            <p:cNvPr id="271" name=""/>
            <p:cNvSpPr/>
            <p:nvPr/>
          </p:nvSpPr>
          <p:spPr>
            <a:xfrm>
              <a:off x="3200400" y="31240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3230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914400" y="3886200"/>
            <a:ext cx="533520" cy="473040"/>
            <a:chOff x="914400" y="3886200"/>
            <a:chExt cx="533520" cy="473040"/>
          </a:xfrm>
        </p:grpSpPr>
        <p:sp>
          <p:nvSpPr>
            <p:cNvPr id="274" name=""/>
            <p:cNvSpPr/>
            <p:nvPr/>
          </p:nvSpPr>
          <p:spPr>
            <a:xfrm>
              <a:off x="914400" y="38862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4400" y="39924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743200" y="198108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742840" y="358128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92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6:40:51Z</dcterms:created>
  <dc:creator>Stewart Bryant</dc:creator>
  <dc:description/>
  <dc:language>en-US</dc:language>
  <cp:lastModifiedBy>Stewart Bryant</cp:lastModifiedBy>
  <dcterms:modified xsi:type="dcterms:W3CDTF">2007-11-29T07:18:04Z</dcterms:modified>
  <cp:revision>27</cp:revision>
  <dc:subject/>
  <dc:title>Slide 1</dc:title>
</cp:coreProperties>
</file>